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1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2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3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4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5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6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35040" y="4838760"/>
            <a:ext cx="586728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635040" y="1980720"/>
            <a:ext cx="586728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75c223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75c223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6" name=""/>
          <p:cNvSpPr/>
          <p:nvPr/>
        </p:nvSpPr>
        <p:spPr>
          <a:xfrm>
            <a:off x="11861640" y="216000"/>
            <a:ext cx="1041480" cy="9321840"/>
          </a:xfrm>
          <a:prstGeom prst="rect">
            <a:avLst/>
          </a:prstGeom>
          <a:solidFill>
            <a:srgbClr val="ed7c26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7772040" y="2286000"/>
            <a:ext cx="39625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5227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8161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1095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4029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69596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2826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7272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1718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61612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0261440" y="241200"/>
            <a:ext cx="2514600" cy="9283680"/>
            <a:chOff x="10261440" y="241200"/>
            <a:chExt cx="2514600" cy="9283680"/>
          </a:xfrm>
        </p:grpSpPr>
        <p:sp>
          <p:nvSpPr>
            <p:cNvPr id="187" name=""/>
            <p:cNvSpPr/>
            <p:nvPr/>
          </p:nvSpPr>
          <p:spPr>
            <a:xfrm>
              <a:off x="10261440" y="2730240"/>
              <a:ext cx="2514600" cy="6794640"/>
            </a:xfrm>
            <a:prstGeom prst="rect">
              <a:avLst/>
            </a:prstGeom>
            <a:solidFill>
              <a:srgbClr val="edb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ff"/>
                  </a:solidFill>
                  <a:latin typeface="Futura"/>
                  <a:ea typeface="Futura"/>
                </a:rPr>
                <a:t> </a:t>
              </a:r>
              <a:endParaRPr b="0" lang="en-US" sz="4300" spc="-1" strike="noStrike">
                <a:solidFill>
                  <a:srgbClr val="727272"/>
                </a:solidFill>
                <a:latin typeface="Futur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261440" y="241200"/>
              <a:ext cx="2514600" cy="2502000"/>
            </a:xfrm>
            <a:prstGeom prst="rect">
              <a:avLst/>
            </a:prstGeom>
            <a:solidFill>
              <a:srgbClr val="48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27272"/>
                </a:solidFill>
                <a:latin typeface="Futura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920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12366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6812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21258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257004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3360" y="1663560"/>
            <a:ext cx="12560400" cy="19051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"/>
              </a:rPr>
              <a:t>Shoplifting</a:t>
            </a: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15640" y="6171840"/>
            <a:ext cx="12560040" cy="8888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John Hazuka da da da.....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3" name=""/>
          <p:cNvSpPr/>
          <p:nvPr/>
        </p:nvSpPr>
        <p:spPr>
          <a:xfrm>
            <a:off x="3358800" y="419040"/>
            <a:ext cx="4243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Futura"/>
                <a:ea typeface="Futura"/>
              </a:rPr>
              <a:t>Source my head...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Shoplifting 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74360" y="238752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hop-lifting also known as a five finger discount. Shoplifting is when you take something without asking.....Have you ever taken something without asking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6" name=""/>
          <p:cNvSpPr/>
          <p:nvPr/>
        </p:nvSpPr>
        <p:spPr>
          <a:xfrm>
            <a:off x="9979200" y="1282320"/>
            <a:ext cx="83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Futura"/>
                <a:ea typeface="Futura"/>
              </a:rPr>
              <a:t>DA!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7" name=""/>
          <p:cNvSpPr/>
          <p:nvPr/>
        </p:nvSpPr>
        <p:spPr>
          <a:xfrm>
            <a:off x="5618160" y="317160"/>
            <a:ext cx="969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Futura"/>
                <a:ea typeface="Futura"/>
              </a:rPr>
              <a:t>DA!!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8" name=""/>
          <p:cNvSpPr/>
          <p:nvPr/>
        </p:nvSpPr>
        <p:spPr>
          <a:xfrm>
            <a:off x="5686560" y="1625400"/>
            <a:ext cx="83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Futura"/>
                <a:ea typeface="Futura"/>
              </a:rPr>
              <a:t>DA!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9" name=""/>
          <p:cNvSpPr/>
          <p:nvPr/>
        </p:nvSpPr>
        <p:spPr>
          <a:xfrm>
            <a:off x="2778480" y="1282320"/>
            <a:ext cx="83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Futura"/>
                <a:ea typeface="Futura"/>
              </a:rPr>
              <a:t>DA!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753080" y="7162920"/>
            <a:ext cx="2506680" cy="21970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10578960" y="11099880"/>
            <a:ext cx="162576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43200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Shoplifting facts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184120"/>
            <a:ext cx="1046484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1/3 of juvenials (kids) who get caught shoplifting admit its a habbit. 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Apoximenly  50% of americans who shoplift are teens. 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Most teens shop lift for the thrill ofTeen shoplifting is a crime that can be prosecuted in the criminal justice system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04" name=""/>
          <p:cNvSpPr/>
          <p:nvPr/>
        </p:nvSpPr>
        <p:spPr>
          <a:xfrm>
            <a:off x="522360" y="9201240"/>
            <a:ext cx="11950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halkboard"/>
                <a:ea typeface="Chalkboard"/>
              </a:rPr>
              <a:t>http://www.onlinelawyersource.com/criminal_law/shoplifting/teen.html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Solutions </a:t>
            </a:r>
            <a:br>
              <a:rPr sz="7900"/>
            </a:b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609120"/>
            <a:ext cx="10464840" cy="11531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Possible Solutions could be Jail Time because you could learn and have a bad time in jail and get beat up. Or at worst you might not have a and time in jail and just do it again.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Go to a consoler about it. Maybe they can keep you in line. Worst case would be you don’t care so you don’t listen. 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tay away from people you shoplift with they can be a bad influence. A bad thing about this you may not have friends anymore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07" name=""/>
          <p:cNvSpPr/>
          <p:nvPr/>
        </p:nvSpPr>
        <p:spPr>
          <a:xfrm>
            <a:off x="11606760" y="3098880"/>
            <a:ext cx="320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727272"/>
                </a:solidFill>
                <a:latin typeface="Futura"/>
                <a:ea typeface="Futura"/>
              </a:rPr>
              <a:t>Fine Print!!</a:t>
            </a:r>
            <a:endParaRPr b="0" lang="en-US" sz="500" spc="-1" strike="noStrike">
              <a:solidFill>
                <a:srgbClr val="727272"/>
              </a:solidFill>
              <a:latin typeface="Futura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066680" y="336600"/>
            <a:ext cx="2793960" cy="17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WA WA WAAAAA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My Solution is just to go to jail! You would only be in for a year or two at most. Might learn some lessons there too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5029200" y="2763720"/>
            <a:ext cx="1384200" cy="12780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-3772080" y="10248840"/>
            <a:ext cx="2745000" cy="322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